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B15-E629-49F1-B693-87B3E481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0BE-5CFB-493A-B2A7-B39CCA1A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11E-11C1-493B-9FB0-1CA69E55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6F0-8F18-4C38-A159-4B8839F2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5E0-B212-453B-922B-6B66835E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F41-204B-47FF-A744-D2A880EF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620-AF7F-4D5D-988C-BE544D8E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7E0-DAA3-4CA8-BD43-1C3E8771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013-B64A-4B0E-9150-03FD4BCA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DBF-B6CA-4A96-B4ED-0D59784E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D82-04FF-44FE-95B8-1C1E4782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463-44E7-42D2-9DC8-44D57E45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740F-80A4-4F87-BCD1-A67779788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Nicene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, the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ker of heaven and ear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all that is, seen and un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only Son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ly begotte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from God, Light from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rue God from tru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gotten, not ma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one Being with the Fathe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him all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re m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us and for our sal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came down from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incarnate of the Holy Spirit and the Virgin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became truly hu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our sake he was crucifi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der Pontius Pila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suffered de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accord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Scriptur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will come again in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judge the living and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is kingdom will have no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the Holy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ord, the giver of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proceeds from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ith the Father and the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s worshipped and glor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proph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holy cat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postolic Chur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cknowledge one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forgiveness of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ook for the resurr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of the world to come.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9 of 9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8:07:06Z</dcterms:created>
  <dc:creator>Anon Anon</dc:creator>
  <dc:description/>
  <dc:language>en-US</dc:language>
  <cp:lastModifiedBy>Anon Anon</cp:lastModifiedBy>
  <dcterms:modified xsi:type="dcterms:W3CDTF">2005-08-16T04:24:38Z</dcterms:modified>
  <cp:revision>26</cp:revision>
  <dc:subject/>
  <dc:title>Nicene Creed</dc:title>
</cp:coreProperties>
</file>